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5E1-A776-4EF8-B73E-CFAB222E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E96-0456-4F45-9BC5-6FDBBE15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8EE-D5DE-47A4-BE0B-60716C1A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2AC-AA4E-4DBA-8887-4599E957B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4278-9550-46F9-86AC-448A7C29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2981-81CB-4646-AD17-3E4505A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1465-03F9-459E-BE02-5037C88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251F-2934-4665-B914-A08A85B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7054-1CDE-405C-8808-7819BE49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E00D-31EB-4287-ADD3-E92D5CA1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EA86-F83B-4111-A791-BB0AF30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065-1B84-4260-B5A6-C10C12DA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377C-5CDE-438F-99FC-7A3AEB80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CFA8-8FCC-418E-85EB-7B726E8A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4F1-705B-462C-AB56-8CE69C7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C76D-FE34-4FE9-9320-79FFEF6D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DB9-F2B1-46C0-A336-F5B260CB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5E8-B041-49B2-9011-960E0967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35A-0F92-4D4B-8D21-F8B2F9C9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7EC-A4C0-4636-8C87-D9DCA756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2B6-8C7C-47D3-A542-002AE9E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58D-C022-4D7A-A06F-48752C5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079-E188-4494-866F-822491C8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A10-2BDD-458E-9D77-D7CB398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BF0-6452-4D4F-9638-46A7EDA6AF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173-9F41-475C-93B7-8894C163D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280" y="1197000"/>
            <a:ext cx="820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ae pump athletwr yn cystadlu mewn ras traws-gwl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13880" y="404640"/>
            <a:ext cx="24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 u="sng">
                <a:solidFill>
                  <a:srgbClr val="ffffff"/>
                </a:solidFill>
                <a:uFillTx/>
                <a:latin typeface="Comic Sans MS"/>
              </a:rPr>
              <a:t>Athletwy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349360"/>
            <a:ext cx="748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O’r wybodaeth ganlynol, penderfynwch ym mha safleoedd y bu A, B, a D orffe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Nid A oedd olaf yn y 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Gorffenodd A wedi i E orff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Nid athletwr D enillodd y 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2840" y="1773360"/>
            <a:ext cx="708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rydydd oedd athletwr C, gyda athletwr E yn ail.</a:t>
            </a: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4360" y="2421000"/>
            <a:ext cx="1330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15:20Z</dcterms:created>
  <dc:creator>Carwyn</dc:creator>
  <dc:description/>
  <dc:language>en-US</dc:language>
  <cp:lastModifiedBy>Carwyn</cp:lastModifiedBy>
  <dcterms:modified xsi:type="dcterms:W3CDTF">2008-12-04T17:38:51Z</dcterms:modified>
  <cp:revision>2</cp:revision>
  <dc:subject/>
  <dc:title>Slide 1</dc:title>
</cp:coreProperties>
</file>